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dt" idx="5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move the slide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ftr" idx="5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 type="sldNum" idx="5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F10B-2781-42CD-AE67-40FF4755F8DC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91AE76-47E0-45DD-9D9E-4C28F0D0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73FBD8-F71B-4317-97F2-100D64A0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61AC59-3859-4353-82C9-C72AFAEA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AF0E3F-8B05-43E6-BEBE-FDA29A95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45290D-DA95-4D81-A142-34DC531F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03CA1D-E8FC-42AE-8A7B-4DEF7BD6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33D655-3EE4-450E-B7EC-7B54016A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E1526A-5331-47A9-9B0E-F405727C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E39D84-96DA-4A0D-9705-08D776887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96A4B4-724A-4028-AD39-DEA1E2E21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A57C2D-5E74-4446-9D8A-BFB0398C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A0D7FB-7A3B-4B71-B41A-BEA05DB6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9DD090-C495-48BE-B118-24BA2C10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7F93D5-9F44-4250-AAD5-DCAAA88C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D5152F-6E51-41E4-8CD0-E8A6ABCE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DDE593-2DB9-4144-9A3D-E84148DE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34AAAE-FD8F-433C-884A-DC77F9D4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752694-9E0C-4294-8A11-75E0556D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3C1D4A-3CEF-4573-B55C-30237E62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2687C5-4A41-4BC7-A6BB-0EB3AD5A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69B0E1-E00F-41F9-A488-8C4D67C6E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489F0A-16A2-449B-B023-5668BF350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924297-0CCB-4ADF-BAF4-05152226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BE2942-935C-4E5E-B5C3-8118D992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39BAF0-005D-4672-8784-BEAA4412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B98F04-F373-4742-85AF-CBD002B7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E5557A-BEB7-4A6D-A813-AA72E6C0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C05DB0-AC2E-45A8-A261-CF78EE40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1EEA78-D69E-458D-9295-0FA5380A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741F45-AA23-457F-A6AF-9FEEB58D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24B07-098B-44A3-9635-B80CE4DF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25A82B-8A5A-4990-9331-CD07B2C4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7398E5-F594-490E-9CC0-07BE71B4E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744F8E-5014-4D4E-9752-3E4BF58C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EE901C-C534-4230-B95B-1645D5DB5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4959C5-647A-4358-8709-1B114ED9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522772-05C2-4947-A5CB-2A9960D7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E4BCA7-E33E-4E9E-B98B-BF56EA77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1B2841-4527-4E0A-99D8-5AC67C11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43BDF5-9A7C-44B4-9056-B3A87B5C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E12087-E174-4E5A-A0EE-6A122530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210EB-4B54-4893-8237-44029687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B8C0C8-878C-4E42-BEFF-61187C55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FEBE38-7629-4BB3-BE88-EDC3B40F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A4A015-A32A-42BA-82BD-89B6246F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1DEC9E-75C8-4527-8691-6E791A99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FBFD9C-E41B-4FF8-9DBB-61BAA6F7D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23DE95-9EDF-4B3C-A4BD-BFA6ECE8A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A8957A-B572-4017-9201-C91D1091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B7EC18-AAE5-4DEE-A56C-9475FD2D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940DBB8-F1C3-48A8-9714-2F87F416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36B6F0-9200-4A03-B03D-9CC06574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8D379-CF45-4B1F-9D28-3DABD0DC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88313E-074C-45CF-8295-044C1D42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32D3234-8244-4CA2-8803-B6C57F00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ED3FA9-D50A-4FC4-9848-C263247A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28A4157-1515-4193-8756-A3DA2BE1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CBEF583-BF2A-46AE-BA19-AC1BF238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C06FD7-6A0B-4009-8066-4BA358998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96624DB-E238-4DC0-AAD1-8B9A5AD07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C87F38-06F1-4F15-A1F0-B64079748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F096D4-2645-44B0-8610-BE34D48D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C25E3D-2CAD-4C02-8D8E-64CA6C48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55429-B727-4771-822F-717B7D12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489634-C502-4F16-822C-8073BC59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098CA00-8CAA-4AA3-80F7-1BC011BE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DBF882-F747-42A1-932D-58309CC7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60B4CA-B3F1-4964-AF7F-4B79AEAC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3D718D-D5CD-485F-9D57-7E2CD809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09BB38-7267-4B33-887F-10B19285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7452FD-E197-459F-8FF6-C7F89CDB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01E295-9192-43F6-9F52-91E66513A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E73E75-BB85-41FC-A8F1-A5B7FD94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F98EBE6-9D53-4EAA-8B60-484075A00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CD923-8E33-4602-A5FB-57769761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A8EBDE6-77EA-48B9-BA31-65392D7E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3FA4CE6-297A-433A-ADCE-269CEF3B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80C8009-40F7-4CF1-8E0A-B5B5C7D4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BFF2D0C-B7C1-4EC8-B8AC-31315346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C7461A2-EA56-45F5-9808-42191476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09FDB5A-68F5-45B3-8EF6-D29EC3DF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BBBC145-9EB6-4777-9947-8C152202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9F863A2-E91A-4A7C-9E33-9B938619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9793CAA-4B86-406A-89EE-23F49C06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A0BC9E6-4F6E-4476-8F14-91910A62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F3AB1-A387-457E-8AFB-5F457ED7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8D8B345-0587-4EB3-8A5A-82AFF9F89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A550A81-3C6F-4E00-9C30-9D4965CA2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AEAC873-CEE3-4129-9141-89805ED1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D9A9EC5-3A92-42B5-BDB7-3229E46A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D427162-35D2-4960-8042-B326759B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3EE33C0-444B-4506-B0F0-68C69CD1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FC0A97D-7FB8-4AA6-BC4C-EB2DAD98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FDECD04-F7F6-49C4-8B6F-B1F01B20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C393196-0E47-4489-8532-CBB2145A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393FCAC-1F22-42E9-A729-0863EBF3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49069-9C29-4D13-A299-EE0E9C08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E1FA950-A651-4DEC-AA9F-DA9BD9DB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20726D0-4606-45D3-9344-DCB28D3AC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91E8B25-D369-4B1F-AC67-14434041F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44F1B1F-12E5-44E3-AAB7-008DBE4DE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529AC0A-6B23-4508-A99F-8CDC2C21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C6EA4BC-B0AA-4C20-88E4-E19D8512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BF4A139-E08C-4429-ACA1-B559CD68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4BCA8A6-00F6-4662-902D-E5C04ECF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2AC5A35-8759-48D9-B9BC-85F89582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E33BEE2-DCB5-4DB1-B19B-0566301A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AC218-314E-4EC5-987E-87DB287B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EA08799-3498-4D4C-A6F5-2FEE10DD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4262967-F48A-4998-8626-9BD77399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9529716-E97C-4D28-A820-7E4EA857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A13E3DC-8DF2-4778-ACF6-28FC8A76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B366CF9-4F74-4E96-A37C-B9AC0AF4B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C85804B-061C-49F9-A252-EFF9ED08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DB89B9F-2E02-4834-9A4C-BD8D19D1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6FD3BE1-747D-4376-9080-557A18AF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5289099-FAB2-42A5-8EA0-D70D7A91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F2BB102-C237-4BC9-B00F-48CFD96B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5CB0D-705B-4EE1-965A-65EEDFBC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A91F319-542D-4C72-821C-ADFD8AA4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E47BD4F-2593-4276-88E4-CECB5657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17BB62D-27A6-4D6C-B039-B145AFFB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98013F4-E2B0-497A-AB9F-CD74EDE9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25911D0-75A4-4A48-A810-1144B358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E875A15-B394-43E9-98E9-CB1D9617C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7EC5090-4304-4F6B-B7A7-774F1E48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CCDAE34-2386-4009-A114-A124F4552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FE895E1-DFCD-4F7E-819C-BBF8F6F4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3B228FA-87A6-471B-8DF3-9EDBC475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4C83B-601E-4D9C-AAE7-2C3CFD7C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4C26A06-2534-4E05-9AA6-133879C7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1456DE1-BACD-4E03-BF6F-5E9A2E84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0A44503-0D32-44EA-9C38-6C27D5E7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C4C0679-FC77-4754-AB62-C7E2D282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93075F7-0920-4278-A937-F0867803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80E4DB8-4356-4FD6-A769-72EB066F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1A1ACD9-D3D1-45D3-B793-6F05295B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3F89061-0B37-4F03-B094-A278D7354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587DE40-1A22-42C3-BD41-48D37658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A711C-9BBB-45E8-8EF2-292BFBED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7BF0D-5BEC-40C3-A7E4-02968CCC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F66B30-BA96-4921-AE22-7B75145F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EC0833-DD29-43DF-95B6-74DAB8C9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BDA603-3D85-4999-9BD4-CAE20EFD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28F341-C8BD-41AB-B616-B529A9C1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B956F9-2CEE-4910-AC1D-E070476B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D80C7D-E56D-4691-B24D-6D78136D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9F0E2A-3818-4196-B7A9-C89AE685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3DE91F-39D4-4BE3-A533-55CB43C4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2F54DD-F968-46AA-A1BB-6AFABE8C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93B276-EF40-48FC-817E-AFF3A885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27E5B5-F7A9-48A9-BB42-29A6DC5A7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C56C18-4474-4C7C-8B6A-0700D4283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D5C91C-74D9-4E6D-B3FF-9BBB47ED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A07DA4-8720-4D94-A3DA-9AF05C9A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A6016D-EB00-4CDE-9548-493BCB7F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0CEA92-C58F-44EA-AFF8-5DAE9173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F9806B-D64E-4D77-B073-F6E2E936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5FD40A-9DBE-4208-913A-28BD7E7E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AB2183-8C94-4EB8-99DE-AC78BEAA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6D1135-B9C9-422F-AA9E-5C4644DF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C15A85-1854-47B3-95ED-32916DC8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0860D3-7474-444C-B199-8889D287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23F49C-8999-40B2-983E-4FFFAB9C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6A3E56-E871-4336-BB54-0AF5AD94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ECDE86-F27F-4F49-BA67-1344198B0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BA0482-FCC0-4008-ABFF-6C3B3082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24B016-0D0A-4C8F-BAFF-EEC5D4DA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F7D4AD-62E6-44CE-9307-A6275A83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DC68A0-B2E6-4D99-9AA7-3D05CF89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08732C-292E-49E7-B4E9-62C8B0A2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89A641-EA2A-4826-9320-B94A4F68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5809CC-4207-4ADD-ADC7-424FB2AF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F12A48-5244-48B5-9507-5E2123B0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1F4E0C-8FF5-471F-B4BE-0C1ED8BB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097817-826F-41D0-BB85-8E718752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E0DDEC-F57C-4DFC-9867-E68AB26D4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8DACC6-EDF0-4A16-BCDF-AABBDD64A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BD55F7-5960-46A3-B93B-CAC615E2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9C4F68-795E-40DE-818F-4EA55837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9235F9-45DB-41B1-BCAF-8E6EF02B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7BE769-CF6C-40DE-A612-37926B97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51EBF2-4EF3-465B-A962-855B2F47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9F5930-55F8-423C-87B5-2F509F3C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F86041-7AF4-4A9E-9A23-6A953AED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4206BC-D7A8-4C6C-A089-C33F795C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5F80E0-67CA-465A-95B7-86DBFEF2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36F600-B0E9-4AF9-8AAB-8B05493C9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47D035-912A-4E72-9BD6-3191DF65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00C32B-A2A1-48A7-B7DE-46DA77395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7B7569-A33D-4736-B78A-CC242E9E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608535-FC93-4866-B6D6-324380E6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52DFDE-DC0F-4F7D-97D9-664D1505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D86CD3-801F-4CB1-A71F-52D1027B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06FD52-3B8A-45D4-B561-190B83E5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0E04B0-2257-49BF-956D-E2F1D798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917DBB-C45F-4CEC-8A99-0AE24B25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317A62-E943-44C0-A060-38E8B451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0E37AD-5A30-45EA-BC7C-A930A18B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E432AA-CFFE-4C85-A924-800682506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72B4BB-5F48-42F5-B582-86E357DFA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A90BB9-7EA9-469A-8BEC-5765455F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26D09D-17B3-488E-BE3C-60FC3873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08FE99-E7C0-43F7-8D1D-DC1A863E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5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7C5B-5A9B-48C2-B7DF-166D490C5CAF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8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9076-3208-4970-971D-0A317AD26984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8A2F-3609-4270-AD01-7EEC3BEEF5A5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B062-4E95-4E5D-B1EE-C7EBF182834C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7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253B-C9DF-41E2-ADC6-30A0EE591F24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0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4D9B-19FB-4888-B4F7-67FB6F870CB8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178B-7051-4D9B-B6E8-D3350E28CBB8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4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1CC4-E72C-4C68-B823-A4C1FE5A12F6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4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D3AB-6461-44F3-8068-AE126B1AD50B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pic>
        <p:nvPicPr>
          <p:cNvPr id="748" name="Obrázek 5" descr=""/>
          <p:cNvPicPr/>
          <p:nvPr/>
        </p:nvPicPr>
        <p:blipFill>
          <a:blip r:embed="rId3"/>
          <a:stretch/>
        </p:blipFill>
        <p:spPr>
          <a:xfrm>
            <a:off x="-127080" y="0"/>
            <a:ext cx="9361440" cy="6858000"/>
          </a:xfrm>
          <a:prstGeom prst="rect">
            <a:avLst/>
          </a:prstGeom>
          <a:ln w="0">
            <a:noFill/>
          </a:ln>
        </p:spPr>
      </p:pic>
      <p:sp>
        <p:nvSpPr>
          <p:cNvPr id="749" name="TextovéPole 6"/>
          <p:cNvSpPr/>
          <p:nvPr/>
        </p:nvSpPr>
        <p:spPr>
          <a:xfrm>
            <a:off x="674640" y="879480"/>
            <a:ext cx="3349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54a6f"/>
                </a:solidFill>
                <a:latin typeface="Arial"/>
              </a:rPr>
              <a:t>MINISTRY OF REGIONAL DEVELOPMENT</a:t>
            </a:r>
            <a:br>
              <a:rPr sz="1000"/>
            </a:br>
            <a:r>
              <a:rPr b="1" lang="en-GB" sz="1500" spc="-1" strike="noStrike">
                <a:solidFill>
                  <a:srgbClr val="054a6f"/>
                </a:solidFill>
                <a:latin typeface="Arial"/>
              </a:rPr>
              <a:t>National Coordination Authority</a:t>
            </a:r>
            <a:endParaRPr b="0" lang="en-US" sz="15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sldNum" idx="5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DACE-A063-40CB-B19C-0A66BDA9D2C3}" type="slidenum"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ftr" idx="5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C248-CC39-4D81-BBA8-FC6297BE110D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3EB2-A576-4706-B197-7004B66AC7E9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5A4D-60FA-495B-B0B8-9953CC766017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F163-44E4-4C89-B2D9-CB0F153A4D80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E795-7031-465A-ADC3-FF865C4346D5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B91B-C8C8-4642-B3F7-93CE9AE7D58C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2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0128-1333-4D25-9348-A87C59EB548E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900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54a6f"/>
                </a:solidFill>
                <a:latin typeface="Century Gothic"/>
              </a:rPr>
              <a:t>Raimonda Mackevi</a:t>
            </a:r>
            <a:r>
              <a:rPr b="1" lang="lt-LT" sz="1500" spc="-1" strike="noStrike">
                <a:solidFill>
                  <a:srgbClr val="054a6f"/>
                </a:solidFill>
                <a:latin typeface="Century Gothic"/>
              </a:rPr>
              <a:t>čiūtė, Visionary Analytics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title"/>
          </p:nvPr>
        </p:nvSpPr>
        <p:spPr>
          <a:xfrm>
            <a:off x="179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700" spc="-1" strike="noStrike">
                <a:solidFill>
                  <a:srgbClr val="0070c0"/>
                </a:solidFill>
                <a:latin typeface="Century Gothic"/>
              </a:rPr>
              <a:t>Thinking outside the box:</a:t>
            </a:r>
            <a:br>
              <a:rPr sz="2700"/>
            </a:br>
            <a:r>
              <a:rPr b="1" lang="en-US" sz="2700" spc="-1" strike="noStrike">
                <a:solidFill>
                  <a:srgbClr val="f2af00"/>
                </a:solidFill>
                <a:latin typeface="Century Gothic"/>
              </a:rPr>
              <a:t>Methodological Innovations in Evaluation of Training Courses Funded by the ESF in Lithuania</a:t>
            </a:r>
            <a:endParaRPr b="0" lang="en-US" sz="27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1440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34ea2"/>
                </a:solidFill>
                <a:latin typeface="Century Gothic Bold"/>
              </a:rPr>
              <a:t>3.10.2018, MMR, Prague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900000" y="2276280"/>
            <a:ext cx="773928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The only way to know the needs is to ask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Big data is only for business and advertis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971640" y="22050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Job ads as the reflection of market need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Continuous 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process of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data min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Data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Weekly scraping of 7 largest vacancies websites (from May 2016)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54a6f"/>
                </a:solidFill>
                <a:latin typeface="Century Gothic"/>
              </a:rPr>
              <a:t>Approx. </a:t>
            </a: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5 k. unique adds each week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Classification by occupations (ISCO 4 digit), economic sector (NACE 4 digit), municipality and individual compan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Indicators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Aggregate and detailed demand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Hard to fill vacanc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Demand for specific competences and bottleneck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5" descr=""/>
          <p:cNvPicPr/>
          <p:nvPr/>
        </p:nvPicPr>
        <p:blipFill>
          <a:blip r:embed="rId1"/>
          <a:stretch/>
        </p:blipFill>
        <p:spPr>
          <a:xfrm>
            <a:off x="2340000" y="1754280"/>
            <a:ext cx="4024440" cy="2466720"/>
          </a:xfrm>
          <a:prstGeom prst="rect">
            <a:avLst/>
          </a:prstGeom>
          <a:ln w="0">
            <a:noFill/>
          </a:ln>
        </p:spPr>
      </p:pic>
      <p:sp>
        <p:nvSpPr>
          <p:cNvPr id="84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573280" y="1267920"/>
            <a:ext cx="3997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46" name="Picture 2" descr=""/>
          <p:cNvPicPr/>
          <p:nvPr/>
        </p:nvPicPr>
        <p:blipFill>
          <a:blip r:embed="rId2"/>
          <a:stretch/>
        </p:blipFill>
        <p:spPr>
          <a:xfrm>
            <a:off x="684360" y="4221000"/>
            <a:ext cx="4002120" cy="263700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4" descr=""/>
          <p:cNvPicPr/>
          <p:nvPr/>
        </p:nvPicPr>
        <p:blipFill>
          <a:blip r:embed="rId3"/>
          <a:stretch/>
        </p:blipFill>
        <p:spPr>
          <a:xfrm>
            <a:off x="4686480" y="4195800"/>
            <a:ext cx="39891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More “objective“ data (compared to interview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tinuous process of data collection: identification of tren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Flexibility, depending on the question (e.g. Labour demand by the level of education in LT region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Limitations determined by the chosen logic of the categorising (e.g. whether driving courses should be categorised as professional training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Only past and present trends (difficult to forecast the future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3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4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5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the 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Only qualified audit institutions can monitor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o evaluate the quality, we need to interview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Nobody wants to have their courses monitor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searchers monitor training courses themselv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ests before and after the trainings to evaluate whether the participants gained knowledg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Possibility to check information identified by organisers during the interview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Contact with participants and lectur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The lack of educational competencies to evaluate details and learning proces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Only one-day training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Low-scale example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0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2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the effectiveness of training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12"/>
          <p:cNvSpPr/>
          <p:nvPr/>
        </p:nvSpPr>
        <p:spPr>
          <a:xfrm>
            <a:off x="3348000" y="1330200"/>
            <a:ext cx="511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inking outside the box: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1" lang="en-US" sz="3200" spc="-1" strike="noStrike">
                <a:solidFill>
                  <a:srgbClr val="f2af00"/>
                </a:solidFill>
                <a:latin typeface="Century Gothic"/>
                <a:ea typeface="Arial"/>
              </a:rPr>
              <a:t>Methodological Innovations in Evaluation of Training Courses Funded by the ESF in Lithuania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2" name="Rectangle 13"/>
          <p:cNvSpPr/>
          <p:nvPr/>
        </p:nvSpPr>
        <p:spPr>
          <a:xfrm>
            <a:off x="3348000" y="59562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Raimonda Mackevi</a:t>
            </a: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čiūtė, Visionary Analytics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October 4, 2018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0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0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benefit analysis as a method that is unsuitable for the evaluation of social intervention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Impossible to get the necessary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An inflexible method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Labour Exchange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O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ffice combining different datasets and providing necessary data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effectiveness analysis of trainings for unemploy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75840" y="13078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-36720" y="1915920"/>
            <a:ext cx="4608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Possibility to evaluate the real impact of trainings in numbe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Identification of indicators that affect the results (e.g. the price of training courses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Comparison of different trainings as well as comparison of trainings and other active labour market measure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1640" y="1290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664160" y="1959120"/>
            <a:ext cx="4479840" cy="48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Does not show whether results were determined by trainings or other facto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The method can be applied only for an evaluation of particular measures and trainings (e.g. if the expected result cannot be monetised or turned into a binary variable, the method is unsuitable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8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nclusions and </a:t>
            </a:r>
            <a:r>
              <a:rPr b="0" lang="en-GB" sz="3600" spc="-1" strike="noStrike">
                <a:solidFill>
                  <a:srgbClr val="ffffff"/>
                </a:solidFill>
                <a:latin typeface="Century Gothic Bold"/>
              </a:rPr>
              <a:t>the </a:t>
            </a: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ain idea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457200" y="1773000"/>
            <a:ext cx="8686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No method is universal: combination of different methods is the only solut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Data exists (somewhere) but we need to make an effort to “find” it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The real aim of evaluations: to suggest ideas how to “get out” of the box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12"/>
          <p:cNvSpPr/>
          <p:nvPr/>
        </p:nvSpPr>
        <p:spPr>
          <a:xfrm>
            <a:off x="3492360" y="2398680"/>
            <a:ext cx="41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ank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y</a:t>
            </a: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ou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for your attention!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af00"/>
                </a:solidFill>
                <a:latin typeface="Arial"/>
                <a:ea typeface="Arial"/>
              </a:rPr>
              <a:t>Let’s discuss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9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6" name="Rectangle 13"/>
          <p:cNvSpPr/>
          <p:nvPr/>
        </p:nvSpPr>
        <p:spPr>
          <a:xfrm>
            <a:off x="250920" y="4653000"/>
            <a:ext cx="2305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54a6f"/>
                </a:solidFill>
                <a:latin typeface="Century Gothic"/>
                <a:ea typeface="Arial"/>
              </a:rPr>
              <a:t>Raimonda Mackeviciute</a:t>
            </a:r>
            <a:endParaRPr b="0" lang="en-US" sz="14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Junior Researcher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Visionary Analytics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7" name="Picture 8" descr="C:\Users\user\Desktop\FOTO\0X5A2886.jpg"/>
          <p:cNvPicPr/>
          <p:nvPr/>
        </p:nvPicPr>
        <p:blipFill>
          <a:blip r:embed="rId2"/>
          <a:stretch/>
        </p:blipFill>
        <p:spPr>
          <a:xfrm>
            <a:off x="317520" y="1708200"/>
            <a:ext cx="2238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Object of the evaluation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4572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Training courses funded by </a:t>
            </a:r>
            <a:r>
              <a:rPr b="1" lang="en-GB" sz="2400" spc="-1" strike="noStrike">
                <a:solidFill>
                  <a:srgbClr val="054a6f"/>
                </a:solidFill>
                <a:latin typeface="Century Gothic"/>
              </a:rPr>
              <a:t>the </a:t>
            </a: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European Social Fund in Lithuania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09" name="Picture 2" descr=""/>
          <p:cNvPicPr/>
          <p:nvPr/>
        </p:nvPicPr>
        <p:blipFill>
          <a:blip r:embed="rId1"/>
          <a:stretch/>
        </p:blipFill>
        <p:spPr>
          <a:xfrm>
            <a:off x="0" y="3357720"/>
            <a:ext cx="4788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ethodological innovations: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Survey of ALL beneficiar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Usage of big labour market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Real-time m</a:t>
            </a: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nitoring of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Cost-effectiveness analysi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2af00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Aim: to hear the beneficiaries‘ opin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ntacts are not availabl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Large scale surveys might be implemented only by survey compan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presentative sample is always the answer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mall surveys about selected cas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457200" y="2099880"/>
            <a:ext cx="8686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questing contact detail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urvey of 100,000 trainings‘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mbination of online survey tools and cod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Many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more answ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Answers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to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open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ended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questions: ideas where else to look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Possibility to analyse answers on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a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particular level (e.g. financial instrument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ypical weaknesses of survey metho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GDPR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ime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suming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7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8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9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</a:t>
            </a:r>
            <a:r>
              <a:rPr b="0" lang="lt-LT" sz="2800" spc="-1" strike="noStrike">
                <a:solidFill>
                  <a:srgbClr val="ffffff"/>
                </a:solidFill>
                <a:latin typeface="Century Gothic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7:44:50Z</dcterms:created>
  <dc:creator>Zilvinas</dc:creator>
  <dc:description/>
  <dc:language>en-US</dc:language>
  <cp:lastModifiedBy>Jansová Lenka</cp:lastModifiedBy>
  <dcterms:modified xsi:type="dcterms:W3CDTF">2018-09-28T09:25:13Z</dcterms:modified>
  <cp:revision>37</cp:revision>
  <dc:subject/>
  <dc:title>Jaunimo geografinis, profesinis ir socialinis judumas: efektyvesnės ekonomikos ir teisingesnės visuomenės link</dc:title>
</cp:coreProperties>
</file>